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E80-B3F2-44D6-A392-9A80341E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A5D-BBA8-4FC4-9343-90AC7464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26E-7BED-43C7-8370-2E496F8D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9B3-C7CD-448F-AEB2-56969B70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BF3C-140C-45D5-A067-201A451B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7B75-F9F7-4F7E-BA91-693FCC82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D013-BC9B-4645-9898-8FC26DF7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3CF8-35B0-4654-B0FD-F4F178A6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1148-45EB-4DC0-B9B8-3FA5BF67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A605-127A-4979-A01B-1745FB9E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EE84-37C6-4353-84EE-AB10FD83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871-E12A-4843-80E3-4C36B8EA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256D-3DF8-42B9-A5F9-2C17BC4B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A152-7B6A-4ABF-BE69-94612014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5034-F3A0-4E64-AAAD-0F40936D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1D5F-C1E2-416E-B204-F4FD47BD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0797-A080-4F61-AB35-1AA7FF70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E43-D5AF-4C48-8679-B7307583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752-2B41-4B1C-AB58-0294333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A86-2EBC-4B5D-B741-FD3CA74C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CA1-2277-4A75-8239-3EB4058C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49F-2ED3-48E1-975A-90BCD32C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9F7-6BC6-482C-85EA-5A48C1A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5BA-52B1-44FF-9C09-5FFCFFC6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D43D-74F8-4D59-B437-ED75E88AB5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4006-5F4E-4157-B81B-2A70DF8314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sgram.narod.ru/" TargetMode="External"/><Relationship Id="rId3" Type="http://schemas.openxmlformats.org/officeDocument/2006/relationships/hyperlink" Target="http://www.orfo.ru/" TargetMode="External"/><Relationship Id="rId4" Type="http://schemas.openxmlformats.org/officeDocument/2006/relationships/hyperlink" Target="http://www.orfo.ru/" TargetMode="External"/><Relationship Id="rId5" Type="http://schemas.openxmlformats.org/officeDocument/2006/relationships/hyperlink" Target="http://www.hi-edu.ru/" TargetMode="External"/><Relationship Id="rId6" Type="http://schemas.openxmlformats.org/officeDocument/2006/relationships/hyperlink" Target="http://www.hi-edu.r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992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СЛОЖНОЕ  ПРЕДЛОЖЕН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ыполнила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долинская Тан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342 груп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Сравните предлож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 из-за сильного дождя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, потому что шел сильный дождь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5562720"/>
            <a:ext cx="399096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В чем их различ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ОСНОВОПОЛАГАЮЩИЙ  ВОПРО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2544480"/>
            <a:ext cx="8001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БЫТЬ  ГРАМОТНЫМ –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                </a:t>
            </a: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ЭТО  ПРОСТО?!..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ПРОБЛЕМНЫЕ 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ими  бывают  предложе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овы различия между вид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Одинаковы ли правила пунктуации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8600" y="422280"/>
            <a:ext cx="7986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Этапы проведения проек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2255760"/>
            <a:ext cx="80010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1) Выбор и формулировка т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2) Поиск информ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3) Самостоятельная работа учащих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4) Защита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Как будут представлены результа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Творческие презент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Букл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Информационные 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Учебники по русскому языку (9 кл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http://rusgram.narod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://www.orfo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6"/>
              </a:rPr>
              <a:t>://www.hi-edu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27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